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F8F-EB0D-4E0A-BBC4-CD697AD8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121-E728-47A6-BA9D-2A258AD9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14E-39A9-4E6A-930B-96034E9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9B0-3110-48BD-92F9-C1DD9B59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236-4E34-41DA-A01E-A6D8E97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9D2-F1CB-46C0-A10D-117D9DE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A4AB-12E4-4A05-AEFC-BD7AFB8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7D25-993E-4239-869D-F3DF73F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4792-4F19-4BAF-85A9-B4A7B1F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5660-8120-4881-B5DE-E66C788E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7841-9C91-43CD-B871-C2AFF522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9C9-AB90-43E3-86CC-53D193C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8645-ACE1-4FC0-AC94-893E72E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4283-6508-46AE-8B41-FFC5EE3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E3D-7CE4-422E-8AE4-E3C86BC6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71B6-0115-4C2E-A6E4-9F329C18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75D-DE8E-48D0-941B-68FE8D9A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229-BE7E-42BA-8F65-58AE6BAA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481-4F16-4540-BB2A-40EE7E6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61B-56E9-424B-8A3E-D6007AF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040-B275-469D-8AEB-C33B3F0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50F-23B4-4AAD-A4B4-CCF5E5B8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4D0-1F1D-47A8-9B17-F7F7E1D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060-ED88-40A6-8035-288E4DA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B5A-D251-4991-A6BD-DA734DD1A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988-D6CD-42E4-BA5A-5634D3E39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op-lev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724120" cy="22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4095720" cy="210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877680" cy="232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133720" y="4456080"/>
            <a:ext cx="116028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201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8x64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114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hrough Abutment - Fillers with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useful tips for automation through Sk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dures – with @key optional arg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-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ggering for pitch-ma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through abu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deliver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d set of highly parametrized Skill scripts for SRAM schematic and layout gen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and user indep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-specific work – parametrization of schematic and layout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in prog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82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05320" y="3701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191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8006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43434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4952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67080" y="44953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665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-decode o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-muxed 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292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60339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 &amp;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334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5257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440" y="546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d/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952880"/>
            <a:ext cx="1066680" cy="990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019920"/>
            <a:ext cx="1828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90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40240" y="389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 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7800" y="5357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70120" y="475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completely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@key in Skill procedures for optional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stor sizes from optimization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00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(UvaEceSchematicCreateInstParNand2(cvid libName cellName Iname location intop inbot out VDD VSS @key (lp 0.06) (wp 0.20) (ln 0.060) (wn 0.20) (m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P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else – Manual, can be replaced by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W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55556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00600" y="4343400"/>
            <a:ext cx="3124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L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-progra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gered for pitch-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2494080"/>
            <a:ext cx="4415040" cy="85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3048120" y="2437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819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706840"/>
            <a:ext cx="175284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524560" y="24760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581600" y="125676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02160" cy="299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37160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342900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571640" y="4190760"/>
            <a:ext cx="2705400" cy="114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34120" y="25142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19920" y="25909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i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1535400" cy="3074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32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ecode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695400" y="2648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placed and routed by En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Bitsl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011320" cy="3057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257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4193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36572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038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7432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526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 Staggered for pitch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uva</cp:lastModifiedBy>
  <dcterms:modified xsi:type="dcterms:W3CDTF">2010-05-04T15:18:42Z</dcterms:modified>
  <cp:revision>16</cp:revision>
  <dc:subject/>
  <dc:title>SRAM Generator</dc:title>
</cp:coreProperties>
</file>